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51A-6C19-4AA1-8763-62E8C013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8A72-3CA8-4ECD-AA28-8B0067B9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B4E-9828-4077-A719-F5894A9A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655-8143-4B57-8E57-9B510493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57E-AC4A-40B1-BA8C-73C0DB4B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369-5935-4646-B9FA-CFA2DE7D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FD7-1757-430A-868A-25227A0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343-C20C-455D-B072-58E2738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564-47B6-4C49-9373-46AAC4FC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6DA-8C18-4298-83F7-19008D8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918-9554-4481-AA88-869F4B85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AEB-51BD-42BC-AAF2-2AE6F74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1BF-FB4A-47C4-AEEE-5C21313D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5A7-853A-49C7-9778-A41AF0B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5FB4-62E2-4914-9C94-628A0868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risty Latsou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hristy Latsou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hristy Latsouna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hristy Latsoun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hristy Latso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we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k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7913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muy bien. Que es el terea ? . tienes  tus libros de matemátic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Photo on 2011-10-21 at 13.46.jpg"/>
          <p:cNvPicPr/>
          <p:nvPr/>
        </p:nvPicPr>
        <p:blipFill>
          <a:blip r:embed="rId1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omo estás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2"/>
          <a:stretch/>
        </p:blipFill>
        <p:spPr>
          <a:xfrm>
            <a:off x="2060640" y="533412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3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765360" y="64008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28600" y="3733920"/>
            <a:ext cx="1600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bre es christy. Tengo 14 años. Estoy feliz y burbujée. Vivo en New york. Amo  cantar y bail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1" descr="551524_497579363608127_481304548_n"/>
          <p:cNvPicPr/>
          <p:nvPr/>
        </p:nvPicPr>
        <p:blipFill>
          <a:blip r:embed="rId4"/>
          <a:stretch/>
        </p:blipFill>
        <p:spPr>
          <a:xfrm>
            <a:off x="152280" y="838080"/>
            <a:ext cx="1524240" cy="137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ANd9GcTV69yPXS68d1YRSpVN2tZd0v6c-sdrpaIslawEtFftBzY89Reg"/>
          <p:cNvPicPr/>
          <p:nvPr/>
        </p:nvPicPr>
        <p:blipFill>
          <a:blip r:embed="rId5"/>
          <a:stretch/>
        </p:blipFill>
        <p:spPr>
          <a:xfrm>
            <a:off x="152280" y="5257800"/>
            <a:ext cx="53352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ANd9GcRa8e_m7-RDFwIelu_UhP5Wd4rSItYO85G1LcA3cxMTl0Yylc8wWQ"/>
          <p:cNvPicPr/>
          <p:nvPr/>
        </p:nvPicPr>
        <p:blipFill>
          <a:blip r:embed="rId6"/>
          <a:stretch/>
        </p:blipFill>
        <p:spPr>
          <a:xfrm>
            <a:off x="838080" y="52578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ANd9GcQf5mJR3sD-OlOaCkm8vTiLZ_GKFKWeC4aJTgmChLwod8AMhfy6"/>
          <p:cNvPicPr/>
          <p:nvPr/>
        </p:nvPicPr>
        <p:blipFill>
          <a:blip r:embed="rId7"/>
          <a:stretch/>
        </p:blipFill>
        <p:spPr>
          <a:xfrm>
            <a:off x="1371600" y="525780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9" descr="ANd9GcS_eJE2CB7yF7ZqHgF62vmxxKTULrOp3Qq0TNTLeXZv4X7MliEJ6Q"/>
          <p:cNvPicPr/>
          <p:nvPr/>
        </p:nvPicPr>
        <p:blipFill>
          <a:blip r:embed="rId8"/>
          <a:stretch/>
        </p:blipFill>
        <p:spPr>
          <a:xfrm>
            <a:off x="2133720" y="32004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ANd9GcQp2xjpl3aCtxUS7FZbN3aLGN2HFkYFXIUUglxQsvCBBeoEZy20"/>
          <p:cNvPicPr/>
          <p:nvPr/>
        </p:nvPicPr>
        <p:blipFill>
          <a:blip r:embed="rId9"/>
          <a:stretch/>
        </p:blipFill>
        <p:spPr>
          <a:xfrm>
            <a:off x="838080" y="594360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ANd9GcQf5mJR3sD-OlOaCkm8vTiLZ_GKFKWeC4aJTgmChLwod8AMhfy6"/>
          <p:cNvPicPr/>
          <p:nvPr/>
        </p:nvPicPr>
        <p:blipFill>
          <a:blip r:embed="rId10"/>
          <a:stretch/>
        </p:blipFill>
        <p:spPr>
          <a:xfrm>
            <a:off x="2209680" y="2590920"/>
            <a:ext cx="46224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ANd9GcS_eJE2CB7yF7ZqHgF62vmxxKTULrOp3Qq0TNTLeXZv4X7MliEJ6Q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ANd9GcQf5mJR3sD-OlOaCkm8vTiLZ_GKFKWeC4aJTgmChLwod8AMhfy6"/>
          <p:cNvPicPr/>
          <p:nvPr/>
        </p:nvPicPr>
        <p:blipFill>
          <a:blip r:embed="rId12"/>
          <a:stretch/>
        </p:blipFill>
        <p:spPr>
          <a:xfrm>
            <a:off x="2133720" y="3733920"/>
            <a:ext cx="4618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44:25Z</dcterms:created>
  <dc:creator>FriscoISD</dc:creator>
  <dc:description/>
  <dc:language>en-US</dc:language>
  <cp:lastModifiedBy>User</cp:lastModifiedBy>
  <dcterms:modified xsi:type="dcterms:W3CDTF">2012-12-04T14:06:34Z</dcterms:modified>
  <cp:revision>103</cp:revision>
  <dc:subject/>
  <dc:title>Profile</dc:title>
</cp:coreProperties>
</file>